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FF80-E084-4954-9BA9-66C3D955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CC72-7A77-4A8F-A1C6-BDFEA6D0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A243-3265-4A45-B0B8-178A6AB7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D045-347D-49A4-8C54-6FAC07F5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26FE-0EE5-4FC4-A250-F531EFB6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65A0-80BD-40E4-A327-04DEB49D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5939-B986-4D80-9439-6CE59412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7C61-E8B8-4591-B27B-6A430571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B262-C181-4CD1-AA25-5777FD71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36B7-66A4-43F0-8F78-897E5726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FF6F-8369-43D5-A4A7-F384E3A1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33DF-402A-4E39-8612-B473DC9D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F15E-E2A5-4FDA-9D94-6702FD83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D78A-B1F3-4DBA-9E90-5FA262E0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D9C5-7454-40A4-9A2D-79C743A0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1F44-0CC0-495A-AC8D-17F6A14F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3CE3-43F4-4711-845C-58743203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7C28-23C4-49B7-9108-D5E55ACD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54B8-415B-4358-8980-2883AB87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5DEF-BDDD-4A94-B046-8ADC7707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69B7-85CC-4022-BA53-3D444A62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AAE-8913-49E5-A950-E5698BCB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1CB4-7281-4298-9E62-10AC86BA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8D4C-A3CF-4C02-9F14-44F5C050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F4A3-0497-4B55-AED5-A6161D4640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D8CD-4298-4ECE-B4BB-7188A0AFF2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4200"/>
            <a:ext cx="815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e4a8"/>
                </a:solidFill>
                <a:latin typeface="Tahoma"/>
              </a:rPr>
              <a:t>Me llamo __________          Clase 7IM</a:t>
            </a:r>
            <a:br>
              <a:rPr sz="3600"/>
            </a:br>
            <a:r>
              <a:rPr b="0" lang="en-US" sz="3600" spc="-1" strike="noStrike">
                <a:solidFill>
                  <a:srgbClr val="00e4a8"/>
                </a:solidFill>
                <a:latin typeface="Tahoma"/>
              </a:rPr>
              <a:t>La fecha es el 9 de noviembre del 201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</a:rPr>
              <a:t>Propósito # 19:</a:t>
            </a:r>
            <a:r>
              <a:rPr b="0" lang="es-ES_tradnl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¿Conoces un país extranjer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Actividad Inicial:</a:t>
            </a:r>
            <a:r>
              <a:rPr b="0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In the following sentences, write the correct form of SER or EST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Yo _______ un alumno en TR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Tú _______ en la clase de españo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Ella ______ inteligente y ser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Nosotros _________ atlétic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¿Ustedes __________ bi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What is do SER &amp; ESTAR mea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What is the differen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5187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ahoma"/>
              </a:rPr>
              <a:t>Conocer</a:t>
            </a: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4400" spc="-1" strike="noStrike">
                <a:solidFill>
                  <a:srgbClr val="996600"/>
                </a:solidFill>
                <a:latin typeface="Tahoma"/>
              </a:rPr>
              <a:t>“A” Perso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en you know a person, the conjugation of “</a:t>
            </a:r>
            <a:r>
              <a:rPr b="1" lang="en-US" sz="3600" spc="-1" strike="noStrike">
                <a:solidFill>
                  <a:srgbClr val="ff6600"/>
                </a:solidFill>
                <a:latin typeface="Tahoma"/>
              </a:rPr>
              <a:t>conocer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” is followed by the letter “</a:t>
            </a:r>
            <a:r>
              <a:rPr b="1" lang="en-US" sz="3600" spc="-1" strike="noStrike">
                <a:solidFill>
                  <a:srgbClr val="996600"/>
                </a:solidFill>
                <a:latin typeface="Tahoma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” (the “a” personal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78000" indent="-315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78000" indent="-315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Yo </a:t>
            </a:r>
            <a:r>
              <a:rPr b="0" lang="en-US" sz="3600" spc="-1" strike="noStrike">
                <a:solidFill>
                  <a:srgbClr val="ff6600"/>
                </a:solidFill>
                <a:latin typeface="Tahoma"/>
              </a:rPr>
              <a:t>conozco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 u="sng">
                <a:solidFill>
                  <a:srgbClr val="996600"/>
                </a:solidFill>
                <a:uFillTx/>
                <a:latin typeface="Tahoma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Martín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78000" indent="-315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o </a:t>
            </a:r>
            <a:r>
              <a:rPr b="0" lang="en-US" sz="3600" spc="-1" strike="noStrike">
                <a:solidFill>
                  <a:srgbClr val="ff6600"/>
                </a:solidFill>
                <a:latin typeface="Tahoma"/>
              </a:rPr>
              <a:t>conocemos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 u="sng">
                <a:solidFill>
                  <a:srgbClr val="996600"/>
                </a:solidFill>
                <a:uFillTx/>
                <a:latin typeface="Tahoma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Julio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78000" indent="-315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Jorge no </a:t>
            </a:r>
            <a:r>
              <a:rPr b="0" lang="en-US" sz="3600" spc="-1" strike="noStrike">
                <a:solidFill>
                  <a:srgbClr val="ff6600"/>
                </a:solidFill>
                <a:latin typeface="Tahoma"/>
              </a:rPr>
              <a:t>conoce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 u="sng">
                <a:solidFill>
                  <a:srgbClr val="996600"/>
                </a:solidFill>
                <a:uFillTx/>
                <a:latin typeface="Tahoma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Ra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ú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1371600" y="1295280"/>
            <a:ext cx="7620120" cy="90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sé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quién es Enrique Iglesias, pero no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Comic Sans MS"/>
              </a:rPr>
              <a:t>conozc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l señor Iglesias personal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685800" y="3200400"/>
            <a:ext cx="769608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Sabem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ónde está Madrid, pero no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Comic Sans MS"/>
              </a:rPr>
              <a:t>conocem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a ciu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28600" y="5029200"/>
            <a:ext cx="861048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sa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sab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que Marc Anthony es famoso, pero no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Comic Sans MS"/>
              </a:rPr>
              <a:t>cono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u mus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228600" y="2286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Consolas"/>
              </a:rPr>
              <a:t>La Diferencia Entre </a:t>
            </a:r>
            <a:r>
              <a:rPr b="1" i="1" lang="en-US" sz="3500" spc="-1" strike="noStrike">
                <a:solidFill>
                  <a:srgbClr val="3333cc"/>
                </a:solidFill>
                <a:latin typeface="Consolas"/>
              </a:rPr>
              <a:t>Saber</a:t>
            </a:r>
            <a:r>
              <a:rPr b="1" lang="en-US" sz="3500" spc="-1" strike="noStrike">
                <a:solidFill>
                  <a:srgbClr val="ff0000"/>
                </a:solidFill>
                <a:latin typeface="Consolas"/>
              </a:rPr>
              <a:t> y </a:t>
            </a:r>
            <a:r>
              <a:rPr b="1" i="1" lang="en-US" sz="3500" spc="-1" strike="noStrike">
                <a:solidFill>
                  <a:srgbClr val="ff6600"/>
                </a:solidFill>
                <a:latin typeface="Consolas"/>
              </a:rPr>
              <a:t>Conoc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914400" y="2362320"/>
            <a:ext cx="7696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 know who Enrique Iglesias is, but I don’t know Mr. Iglesias personal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838080" y="4191120"/>
            <a:ext cx="76964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e know where Madrid is, but we aren’t familiar with the c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762120" y="6051600"/>
            <a:ext cx="7696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osa knows that Marc Anthony is famous, but she isn’t acquainted with his musi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4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area # 1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a la hoj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aber y Conoc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214200"/>
            <a:ext cx="815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Saber y Conocer en el present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ling what and whom you know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verbs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AB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CONOC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oth me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 kno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both have an irregular YO form in the present ten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14600" y="2438280"/>
            <a:ext cx="855720" cy="854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333399"/>
                </a:solidFill>
                <a:latin typeface="Tahoma"/>
              </a:rPr>
              <a:t>Saber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conju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2514600"/>
            <a:ext cx="1523880" cy="23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Times New Roman"/>
              </a:rPr>
              <a:t>s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Times New Roman"/>
              </a:rPr>
              <a:t>sab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Times New Roman"/>
              </a:rPr>
              <a:t>sab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2573280"/>
            <a:ext cx="2438280" cy="14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Times New Roman"/>
              </a:rPr>
              <a:t>sab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Times New Roman"/>
              </a:rPr>
              <a:t>sab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5002200"/>
            <a:ext cx="3695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er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rregular in i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057400" y="3260880"/>
            <a:ext cx="6094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00" y="2514600"/>
            <a:ext cx="2517120" cy="23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Y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ahoma"/>
              </a:rPr>
              <a:t>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ahoma"/>
              </a:rPr>
              <a:t>Él ella 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39200" y="2589120"/>
            <a:ext cx="2687760" cy="23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Nosotr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ahoma"/>
              </a:rPr>
              <a:t>Ello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ahoma"/>
              </a:rPr>
              <a:t>Ellas Ud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76520" y="3100320"/>
            <a:ext cx="3429000" cy="1243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391440" y="5257800"/>
            <a:ext cx="2676240" cy="1495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9480" y="0"/>
            <a:ext cx="784872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aber</a:t>
            </a:r>
            <a:r>
              <a:rPr b="1" lang="en-US" sz="39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o know a fact, to have information about some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19810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abemo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que Rodolfo y Luisa son estudiantes universit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320" y="426708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ab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que día es el viaje a Puerto Ric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548640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é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l número de teléfono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men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524560" y="3691080"/>
            <a:ext cx="2324160" cy="1643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 flipH="1">
            <a:off x="7819920" y="3435480"/>
            <a:ext cx="13240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4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71600" y="2133720"/>
            <a:ext cx="2819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sé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0099"/>
                </a:solidFill>
                <a:latin typeface="Comic Sans MS"/>
              </a:rPr>
              <a:t>jugar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utb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3352680"/>
            <a:ext cx="3809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Sab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0099"/>
                </a:solidFill>
                <a:latin typeface="Comic Sans MS"/>
              </a:rPr>
              <a:t>hablar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spañ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4572000"/>
            <a:ext cx="43434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s niños no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sab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0099"/>
                </a:solidFill>
                <a:latin typeface="Comic Sans MS"/>
              </a:rPr>
              <a:t>multiplica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bi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228600"/>
            <a:ext cx="731520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aber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3900" spc="-1" strike="noStrike">
                <a:solidFill>
                  <a:srgbClr val="cc0099"/>
                </a:solidFill>
                <a:latin typeface="Times New Roman"/>
              </a:rPr>
              <a:t>infinitive*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to know </a:t>
            </a:r>
            <a:r>
              <a:rPr b="0" lang="en-US" sz="39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(to do something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5989680"/>
            <a:ext cx="44193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ocer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followed by an infinitiv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4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4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4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3520" y="15840"/>
            <a:ext cx="80010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a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s often followed by a </a:t>
            </a:r>
            <a:r>
              <a:rPr b="0" lang="en-US" sz="3900" spc="-1" strike="noStrike">
                <a:solidFill>
                  <a:srgbClr val="008000"/>
                </a:solidFill>
                <a:latin typeface="Times New Roman"/>
              </a:rPr>
              <a:t>question wor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.*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471680"/>
            <a:ext cx="8153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Sabemo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8000"/>
                </a:solidFill>
                <a:latin typeface="Comic Sans MS"/>
              </a:rPr>
              <a:t>quié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s Antonio Bander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38862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Sab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8000"/>
                </a:solidFill>
                <a:latin typeface="Comic Sans MS"/>
              </a:rPr>
              <a:t>dónd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stá Waldo y Wend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5334120"/>
            <a:ext cx="7086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sé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8000"/>
                </a:solidFill>
                <a:latin typeface="Comic Sans MS"/>
              </a:rPr>
              <a:t>cuándo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sale el vuelo para Chi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6324480"/>
            <a:ext cx="7848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ocer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followed by a question word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419720" y="1974960"/>
            <a:ext cx="2361960" cy="1834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62120" y="34290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781680" y="3429000"/>
            <a:ext cx="1433520" cy="1752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7086600" y="5219640"/>
            <a:ext cx="16765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4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4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9480" y="0"/>
            <a:ext cx="792504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aber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s also used when we know something from memory (de memoria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320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uela Marta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ab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l Himno Nacional Mexic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2190960" cy="1981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809880" y="3352680"/>
            <a:ext cx="4648320" cy="1603440"/>
          </a:xfrm>
          <a:prstGeom prst="wedgeEllipseCallout">
            <a:avLst>
              <a:gd name="adj1" fmla="val -60930"/>
              <a:gd name="adj2" fmla="val 9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¡Mexicanos, al grito de guerra . . .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886200" y="3429000"/>
            <a:ext cx="380520" cy="523440"/>
            <a:chOff x="3886200" y="3429000"/>
            <a:chExt cx="380520" cy="523440"/>
          </a:xfrm>
        </p:grpSpPr>
        <p:sp>
          <p:nvSpPr>
            <p:cNvPr id="139" name=""/>
            <p:cNvSpPr/>
            <p:nvPr/>
          </p:nvSpPr>
          <p:spPr>
            <a:xfrm>
              <a:off x="4076640" y="3429000"/>
              <a:ext cx="190080" cy="14940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19080 h 149400"/>
                <a:gd name="textAreaBottom" fmla="*/ 130320 h 14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86200" y="3803040"/>
              <a:ext cx="190440" cy="14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76640" y="3484800"/>
              <a:ext cx="0" cy="399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867280" y="4648320"/>
            <a:ext cx="381240" cy="514080"/>
            <a:chOff x="5867280" y="4648320"/>
            <a:chExt cx="381240" cy="514080"/>
          </a:xfrm>
        </p:grpSpPr>
        <p:sp>
          <p:nvSpPr>
            <p:cNvPr id="143" name=""/>
            <p:cNvSpPr/>
            <p:nvPr/>
          </p:nvSpPr>
          <p:spPr>
            <a:xfrm>
              <a:off x="6058080" y="4648320"/>
              <a:ext cx="190440" cy="1468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19080 h 146880"/>
                <a:gd name="textAreaBottom" fmla="*/ 127800 h 14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67280" y="5015520"/>
              <a:ext cx="190800" cy="14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58080" y="4703040"/>
              <a:ext cx="0" cy="3916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7848720" y="3352680"/>
            <a:ext cx="609480" cy="590400"/>
            <a:chOff x="7848720" y="3352680"/>
            <a:chExt cx="609480" cy="590400"/>
          </a:xfrm>
        </p:grpSpPr>
        <p:sp>
          <p:nvSpPr>
            <p:cNvPr id="147" name=""/>
            <p:cNvSpPr/>
            <p:nvPr/>
          </p:nvSpPr>
          <p:spPr>
            <a:xfrm>
              <a:off x="7848720" y="3785760"/>
              <a:ext cx="221400" cy="157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70120" y="3450960"/>
              <a:ext cx="0" cy="420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236440" y="3687480"/>
              <a:ext cx="221760" cy="157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458200" y="3352680"/>
              <a:ext cx="0" cy="420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8070120" y="3352680"/>
              <a:ext cx="387720" cy="105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4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4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133720" y="2438280"/>
            <a:ext cx="2133360" cy="854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ahoma"/>
              </a:rPr>
              <a:t>Conoc</a:t>
            </a:r>
            <a:r>
              <a:rPr b="1" sz="4400" spc="-1" strike="noStrike">
                <a:solidFill>
                  <a:srgbClr val="ff6600"/>
                </a:solidFill>
                <a:latin typeface="Tahoma"/>
              </a:rPr>
              <a:t>er</a:t>
            </a:r>
            <a:br>
              <a:rPr sz="4400"/>
            </a:b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 conju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2535120"/>
            <a:ext cx="221004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oz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oc</a:t>
            </a: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oc</a:t>
            </a: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2598840"/>
            <a:ext cx="281916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oc</a:t>
            </a: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oc</a:t>
            </a: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5002200"/>
            <a:ext cx="3695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er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oc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rregular in i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981080" y="3047760"/>
            <a:ext cx="76212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76680" y="2549520"/>
            <a:ext cx="232668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ahoma"/>
              </a:rPr>
              <a:t>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ahoma"/>
              </a:rPr>
              <a:t>Él ella 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2590920"/>
            <a:ext cx="248184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osot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ahoma"/>
              </a:rPr>
              <a:t>Ell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ahoma"/>
              </a:rPr>
              <a:t>Ellas U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95680" y="914400"/>
            <a:ext cx="4595760" cy="5715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2590920"/>
            <a:ext cx="5181480" cy="28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Conoc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o know a person, or to be acquainted or thoroughly familiar with a person or th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4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4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0:52:38Z</dcterms:created>
  <dc:creator>Helen Zumaeta</dc:creator>
  <dc:description/>
  <dc:language>en-US</dc:language>
  <cp:lastModifiedBy>Helen Zumaeta</cp:lastModifiedBy>
  <dcterms:modified xsi:type="dcterms:W3CDTF">2011-11-10T01:38:41Z</dcterms:modified>
  <cp:revision>4</cp:revision>
  <dc:subject/>
  <dc:title>Me llamo __________          Clase 7IM La fecha es el 9 de noviembre del 2011</dc:title>
</cp:coreProperties>
</file>